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B82-F5F5-4847-BEF2-E2CBD8E8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63F2-D44B-4F7F-B517-BC3D9B51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181-C84B-4EE1-B04C-2BC51B8A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4841-4546-4E69-AD89-9A8B4FEC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A93-2EE4-40C9-820E-F3195567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467-7009-4625-8624-20A1C40F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BCD-1F96-474D-98BB-CD6511C8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726-3B4D-4622-8606-1FB05662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B209-90F7-4AA2-82D3-C92C4D5F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F53-CB69-4212-8E20-7FEE1DF3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A253-8FD3-4B3E-AE5A-70F945D9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4F6B-4313-4395-83F8-4AD6C3DE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6893-95D3-479F-96DF-C0C36E8C0E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103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助你成功的十个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0560" y="3521160"/>
            <a:ext cx="78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Nothing is more powerful than habit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6840" y="400536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没有什么比习惯的力量更强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35640" y="681120"/>
            <a:ext cx="23050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120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十、立即行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3130560"/>
            <a:ext cx="8686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价值连城的目标计划，成功已向你展示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8120" y="41497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别在犹豫，请立即行动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12000" y="399960"/>
            <a:ext cx="25873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61136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每天高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行为是出于习惯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就是说，倘若我们能看清并且改掉坏习惯，看清并且坚持好习惯，我们至少就能在人生路上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。关键在于看清自己。关键在于经常地“自我评估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美）杰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霍吉 著  《习惯的力量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8276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成功，就要设定目标，只有不断改变旧习惯，确定新习惯，朝目标坚定不拔、努力拼搏的人，才能品味他人所不能享受的喜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67640" y="-27000"/>
            <a:ext cx="1476360" cy="4410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7680" y="620280"/>
            <a:ext cx="37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一 、热诚的态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5760" y="16142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的态度决定了我们的未来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能否成功，取决了他的态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5680" y="4206960"/>
            <a:ext cx="102312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怎样对待生活，生活就怎样对待我们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怎样对待别人，别人怎样对待我们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在一项任务刚开始时的态度就决定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后的多大成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622600"/>
            <a:ext cx="784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功人士始终有最热诚的态度最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极的思考、最乐观的精神和最辉煌的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验支配和控制自己的人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95640" y="44280"/>
            <a:ext cx="3238560" cy="26956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3760" y="2518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二、目标明确 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目标就是构筑成功的砖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560" y="3684600"/>
            <a:ext cx="84963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标使我们产生积极性，你给自己定了目标，有两个方面的作用：一是你努力的依据。二是你的鞭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720" y="5340240"/>
            <a:ext cx="8136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标给你一个看得着的射击靶，随着你努力去实现这些目标，你就会有成就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4480" y="270936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三、 一勤天下无难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5560" y="3760560"/>
            <a:ext cx="77151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心向着自己目标前进的人，整个世界都给他让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08720" y="477720"/>
            <a:ext cx="27241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400" y="2141640"/>
            <a:ext cx="822960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四、擅于理财、</a:t>
            </a:r>
            <a:br>
              <a:rPr sz="3600"/>
            </a:b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        预算时间和金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436356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健康的体魄是成就事业的资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功人士几乎都有自己喜欢的体育项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0400" y="343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五、喜欢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2227320" cy="2163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808600" y="287280"/>
            <a:ext cx="26510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5120" y="1206000"/>
            <a:ext cx="261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六、自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5920" y="2249640"/>
            <a:ext cx="7354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控能力的强弱对人生的成功也有很大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30680" y="3405240"/>
            <a:ext cx="40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你生气时，你能沉默不语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42480" y="5586480"/>
            <a:ext cx="101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习惯让你的情绪控制你的理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27600" y="4842000"/>
            <a:ext cx="102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的性情一般是平和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02360" y="4121280"/>
            <a:ext cx="30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习惯于三思而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588000" y="4095720"/>
            <a:ext cx="201780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1680" y="988560"/>
            <a:ext cx="318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七、谦虚好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4400" y="2088720"/>
            <a:ext cx="77864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是否把不断的学习更多的知识作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的职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22920" y="443700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你需要知识时，你知道如何寻找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4480" y="328464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是否有一种习惯：对你所不熟悉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发表意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83840" y="5169600"/>
            <a:ext cx="142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越是成功的人，他们越会抓住一切可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学习的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八、良好的人际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6360" y="3284640"/>
            <a:ext cx="506088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功意味着别人的参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005360"/>
            <a:ext cx="280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九、信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13:16:1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55:12Z</dcterms:modified>
  <cp:revision>11</cp:revision>
  <dc:subject>主题班会课件(分28大类): http://shop62905894.taobao.com</dc:subject>
  <dc:title>主题班会课件(分28大类): http://shop62905894.taobao.com</dc:title>
</cp:coreProperties>
</file>